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41B-755E-46BD-A1AE-304C9DB4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C45-2A82-450B-AC29-77D56CB2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2A5-FAA7-4F9E-ADE9-AD934837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3E5-1D61-4048-9F65-32F75BC7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2395-F133-4A5D-B2A5-C7FDF244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0C78-E022-4BCE-A844-711DB3F3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155D-1CF2-4E60-9E68-285B51C9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D31C-3217-453C-9C04-C7431884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E19F-5B21-4A87-9FDC-A90D7F66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5DC1-81A7-4052-A187-6A25EDF6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BA34-E4A1-4057-B93B-3920FCE6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DA0-F914-4B9F-82A8-087424F4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41C8-5138-4DF8-B1B9-5276B30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7A49-BF7B-4671-A58C-FFE4C95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7547-317B-45BC-9B8F-DC257AFD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195E-E035-42AA-8548-63BB0DB7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D69C-C1E5-4D1C-8824-547339D5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3D8-EBDE-4D6A-9189-BE61C070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4E4-2AF5-4F43-B7A5-266DCDEF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4F7-1D42-487A-A462-23AB1C8B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AED-91E3-4EFD-A4AE-3E8DD73D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CA5-5664-4384-BA5A-33EC849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D00-5A27-4721-BCB4-8B8EC4A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824-0425-4B9D-A3CE-43DF20F1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6950-C3E5-4D5F-B295-FA32B3FF955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8D07-C325-4CFB-AE4D-C94D69A170E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ubanarchive.ru/content/kuban45/2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ubanarchive.ru/content/kuban45/3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kubanarchive.ru/content/kuban45/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ubanarchive.ru/content/kuban45/1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ubanarchive.ru/content/kuban45/6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2" descr="C:\Documents and Settings\Администратор\Рабочий стол\E11FAAB7_F7D5_49E1_A6D0_A2E07EBA57D1_700x468.jpg"/>
          <p:cNvPicPr/>
          <p:nvPr/>
        </p:nvPicPr>
        <p:blipFill>
          <a:blip r:embed="rId1"/>
          <a:stretch/>
        </p:blipFill>
        <p:spPr>
          <a:xfrm>
            <a:off x="0" y="1116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948240" y="506520"/>
            <a:ext cx="796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Битва за Кавказ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убань в годы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еликой Отечественной войн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Перевозка боеприпасов немецкими горными частями на Кавказ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2" descr="C:\Documents and Settings\Dmitry.MICROSOF-D93A85\Рабочий стол\german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464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Партизаны Ладожского партизанского отряда с командирами 23-го полка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Рисунок 6" descr=" ">
            <a:hlinkClick r:id="rId1"/>
          </p:cNvPr>
          <p:cNvPicPr/>
          <p:nvPr/>
        </p:nvPicPr>
        <p:blipFill>
          <a:blip r:embed="rId2"/>
          <a:srcRect l="1063" t="0" r="1063" b="0"/>
          <a:stretch/>
        </p:blipFill>
        <p:spPr>
          <a:xfrm>
            <a:off x="1981080" y="914400"/>
            <a:ext cx="52977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Tahoma"/>
              </a:rPr>
              <a:t>Жители Краснодара встречают освободителей - бойцов Красной Армии. 1943 г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Рисунок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017800"/>
            <a:ext cx="7772400" cy="445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оздушные асы Великой Отечественной войн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C:\Documents and Settings\Dmitry.MICROSOF-D93A85\Рабочий стол\1702623_original.jpg"/>
          <p:cNvPicPr/>
          <p:nvPr/>
        </p:nvPicPr>
        <p:blipFill>
          <a:blip r:embed="rId1"/>
          <a:stretch/>
        </p:blipFill>
        <p:spPr>
          <a:xfrm>
            <a:off x="603360" y="1395360"/>
            <a:ext cx="82486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Советские разведчики преодолевают водную преграду. Краснодарский край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Documents and Settings\Dmitry.MICROSOF-D93A85\Рабочий стол\98998989.7q580z7eltkwg4gcw4gwk000w.ejcuplo1l0oo0sk8c40s8osc4.th.jpeg"/>
          <p:cNvPicPr/>
          <p:nvPr/>
        </p:nvPicPr>
        <p:blipFill>
          <a:blip r:embed="rId2"/>
          <a:stretch/>
        </p:blipFill>
        <p:spPr>
          <a:xfrm>
            <a:off x="380880" y="1752480"/>
            <a:ext cx="8534520" cy="480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Медаль «За оборону Кавказ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Dmitry.MICROSOF-D93A85\Рабочий стол\Kaukaz.jpg"/>
          <p:cNvPicPr/>
          <p:nvPr/>
        </p:nvPicPr>
        <p:blipFill>
          <a:blip r:embed="rId2"/>
          <a:stretch/>
        </p:blipFill>
        <p:spPr>
          <a:xfrm>
            <a:off x="1143000" y="1600200"/>
            <a:ext cx="7772400" cy="510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азак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расной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ощад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Dmitry.MICROSOF-D93A85\Рабочий стол\0e0c0a6742888e40faeafd6fa27d0c43.jpeg"/>
          <p:cNvPicPr/>
          <p:nvPr/>
        </p:nvPicPr>
        <p:blipFill>
          <a:blip r:embed="rId2"/>
          <a:stretch/>
        </p:blipFill>
        <p:spPr>
          <a:xfrm>
            <a:off x="914400" y="1752480"/>
            <a:ext cx="769608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22 июня. Начало войны. В четвертом часу утра фашистская авиация одновременно атаковала 66 советских аэродромов. В 3 часа 15 минут с румынской территории гитлеровские самолеты совершили первый групповой налет на главную базу Черноморского флота - город Севастополь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Picture 3" descr="C:\Documents and Settings\Dmitry.MICROSOF-D93A85\Рабочий стол\3piek5yoy7k6ahafkum7empsa68oe0n7.jpg"/>
          <p:cNvPicPr/>
          <p:nvPr/>
        </p:nvPicPr>
        <p:blipFill>
          <a:blip r:embed="rId1"/>
          <a:stretch/>
        </p:blipFill>
        <p:spPr>
          <a:xfrm>
            <a:off x="914400" y="2017800"/>
            <a:ext cx="76960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ичины захвата гитлеровцами  Кавказа и Кубани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обое  значение придавалось  захвату  крупных  топливно-энергетических 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гион располагал стратегически важными для военной промышленности месторождениями  вольфрамомолибденовых руд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потерей украинских черноземов возросло значение Кубани и Кавказа в обеспечении страны продовольствием, особенно зерн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жность этого региона также была связана с тем, что через южную, советско-иранскую границу шло около половины поставок по ленд-лиз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Немецкие бронетранспортеры в кубанской степ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C:\Documents and Settings\Dmitry.MICROSOF-D93A85\Рабочий стол\btr_kuban.7sjyrnxwsc0s04sc8gcgscwsk.ejcuplo1l0oo0sk8c40s8osc4.th.jpeg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502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800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6 июля. </a:t>
            </a:r>
            <a:r>
              <a:rPr b="0" lang="ru-RU" sz="1400" spc="-1" strike="noStrike">
                <a:solidFill>
                  <a:srgbClr val="333399"/>
                </a:solidFill>
                <a:latin typeface="Tahoma"/>
              </a:rPr>
              <a:t>Военный Совет Северо-Кавказского военного округа направил директиву Краснодарскому крайкому ВКП(б) о создании в крае народного ополчения для усиления частей Красной Армии, обороняющих территорию Северного Кавказа от возможного вторжения противника.</a:t>
            </a: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676520"/>
            <a:ext cx="6934320" cy="44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Рисунок 3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152280"/>
            <a:ext cx="89154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Семья провожает казака (К.П. Шабанова в казачью часть. Февраль 1942 г.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Рисунок 3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139840"/>
            <a:ext cx="7010640" cy="405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81057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31 июля - 4 августа. На рубеже станиц Кущевская - Шкуринская - Канеловская части 17-го казачьего кавалерийского корпуса под командованием генерал-майора Н.Я. Кириченко, переброшенные сюда 30 июля с задачей срочно занять оборону, вели ожесточенные бои против отборных соединений гитлеровцев. Это было первое крупное сражение корпуса, его боевое крещение.</a:t>
            </a:r>
            <a:br>
              <a:rPr sz="1600"/>
            </a:b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2" descr="C:\Documents and Settings\Dmitry.MICROSOF-D93A85\Рабочий стол\20327_original.jpg"/>
          <p:cNvPicPr/>
          <p:nvPr/>
        </p:nvPicPr>
        <p:blipFill>
          <a:blip r:embed="rId1"/>
          <a:stretch/>
        </p:blipFill>
        <p:spPr>
          <a:xfrm>
            <a:off x="1066680" y="2052720"/>
            <a:ext cx="7543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Немецкий танкист наблюдает за горящим нефтехранилищем в районе Майкоп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Dmitry.MICROSOF-D93A85\Рабочий стол\img492.dk3f4l84nm888448wcswgwwgg.ejcuplo1l0oo0sk8c40s8osc4.th.jpeg"/>
          <p:cNvPicPr/>
          <p:nvPr/>
        </p:nvPicPr>
        <p:blipFill>
          <a:blip r:embed="rId2"/>
          <a:stretch/>
        </p:blipFill>
        <p:spPr>
          <a:xfrm>
            <a:off x="1447920" y="1903320"/>
            <a:ext cx="67816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5-03-31T15:15:27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